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870-F91F-4783-8EE0-F251DE43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4F59-A44D-44E1-95A2-556F864D6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80BC-E8AE-4A5E-B774-32A2DC8BA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DD92-0893-47F0-A937-F773D3A25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F5D2-762F-4323-BACE-A46FB848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82D7-1C01-4562-BF76-EFB68CA3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3BB-2559-42EA-A77E-F6BA82A21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D64E-9B96-4E73-802D-AA9BEA122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EA6F-0D0A-466F-BBE6-F2F6DC809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2BCF-E203-47B6-BB02-896A3EACA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7F9A-0AEB-4096-84C1-AD1CBEC33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3FFA-B71C-4EC9-A2D7-43AF308F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3B9C-E023-4774-992B-832BBB3A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97A3-D413-475D-AD7E-A3B9E0F41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D010-4865-4E77-ACA4-B795C5FCC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75C2-6FBF-4518-B37E-57C9AED8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ПРЕПАРАТ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C U L A R I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71640" y="1125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606920" y="5300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дешавање вискози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за повећање вискозитет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ужено деловање услед успореног отицања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паног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ћање биолошке расположив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блажавање механичке иритације корне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средстава за повећање вискозитета: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целулоз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метил-целуло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хидроксиетил-целуло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M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хидроксипропилметил-целуло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M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натријум-карбоксиметилцелулоза), синтетски полимер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A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винил- алкохол, ПВП - поливинил-пиролидо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и вискозитет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– 25 cps; max. 50 c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у циљу заштите стерилног садржаја вишедозног препарата у току чувања и употребе 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које треба да задовољи добар конзерван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ирок спектар антимикробног делов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рзо и дуготрајно деловање на собној температу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не изазива алергију и сензибилизацију 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емијски и физички компатибилан са амбалаж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оксични и физиолошки подношљи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зависног деловања о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511344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зерванса у капима за о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43000" y="1700280"/>
          <a:ext cx="8650080" cy="4726080"/>
        </p:xfrm>
        <a:graphic>
          <a:graphicData uri="http://schemas.openxmlformats.org/drawingml/2006/table">
            <a:tbl>
              <a:tblPr/>
              <a:tblGrid>
                <a:gridCol w="2162160"/>
                <a:gridCol w="2162160"/>
                <a:gridCol w="2308320"/>
                <a:gridCol w="2017440"/>
              </a:tblGrid>
              <a:tr h="64116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ста конзерванс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трациј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ална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редно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МЕ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алконијум-хлори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(BA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% - 0,0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60% </a:t>
                      </a:r>
                      <a:r>
                        <a:rPr b="1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ерцијалних препарата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+ 0,01% ED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илмеркури-нитра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борат, -ацетат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% (0,004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 – 7,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бутано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 – 6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бил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ропил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бен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+1); plv. conserva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хексидин-ацета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% – 0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иксин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сулфат + 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USP U + 0,0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MONAS </a:t>
                      </a: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кап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септичним условима у комори са ламинарним протоком ва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се растварају или суспендују у делу вехикулума и допуне растварачем до прописане запрем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типа раствора се филтрирају кроз бактериолошки филтер у стерилну бочицу са капаљ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могуће изврши се стерилизација засићеном воденом паром под прити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Ph. Jug. V вишедозно паковање може да садржи највише 1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ње капи за 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а сигнатура са ознаком рока употр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без конзерванса морају бити у једнодозном паковањ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вишедозних паковања мора бити назначен употребљени конзерванс и његова 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 капи за 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0 дана након отварања, а за магистрално израђен препарат 5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 дуже од 4 недеље након отвар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 капи за 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ице од полимерне пластике или стак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ној температури, заштићено од директне светл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капи за оч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стр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ханичка онечишћењ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рилнос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чина честица чв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 супстанци  у  капима типа суспензија (90% честица мора бити &lt; 25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а &gt; 25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јвише две од ових могу бити маx. 50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иједна &gt; 90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, бистри, водени раствори намењени за прање или купање ока или за натапање завоја за о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дешавање тоничн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већање вискозитет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стабилизацију и подешавањ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(у вишедозним паковањим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дозна паковања: маx. 2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једнодозна паковања (употреба само једно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шедозна паковања (рок употребе 4 недеље након отварањ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хируршких интервенција и повређеног ока примењују се једнодозна паковања, без конзерван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е масти, кремови или гелови који се примењују у коњуктивалну врећицу и на рубове очног капка. Садрже једну или више лековитих супстанци које су растворене или дисперговане у одговарајућој подлози и имају хомоген изглед. Подлога не сме да иритира коњукт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дне (обично садрже вазелин, течни парафин и/или ланолин или ланолинске алкохо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оге са водом (најчешће емулзоиди типа В/У и У/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са органским хидроколоидима (хидроге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C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P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ривати полиакрилне кисели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 подлоге за масти за оч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IV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ad ocul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ad unguenta antibiotic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поручује се употреба подлога са полиалкилсилоксанима због изражене хидрофобности и полиетиленгликолима због надражајног дејства на слузницу 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пстан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стима за оч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дријатици, миотици, локални анестетици, кортикостероиди, антибиоти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за очи садрже конзерванс по потре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 у односу на капи за очи: дуже задржавање на месту примене и продужено делов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и паковање маст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844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у асептичним условима са стерилним прибором, супстанцама и подл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метода левиг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: мале, савитљиве, стерилне тубе од алуминијума, полиетилена или ПВЦ-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о паковање масти за очи је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Ph. Jug. IV и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Ph.Eur. 6.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Eur. 6.0)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ишедоз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а до 4 недеље након отва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46748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илни препарати течне, получврсте или чврсте конзистенције, намењени за примену на очну јабучицу и/или коњуктиву, као и за апликацију у коњуктивалну врећицу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Yug. 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ефекат у офталмологији остварују и раствори за контактна сочива, аеросоли, инјекције и таблете за о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400536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68360" y="4869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препарати се примењују 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 и дијагностици обољења 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получврстих препарата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– техника мембранске филтрације или директне инок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препарата типа суспенз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ти захтеви као за капи за очи типа сусп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инс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, чврсти или получврсти препарати одређене величине и облика, намењени за примену у коњуктивалну врећицу. Састоје се из резервоара лековите супстанце који је уграђен у матрикс или је обложен мембраном која контролише ослобађање. Лековита супстанца која је више или мање растворљива у физиолошким течностима, ослобађа се у одређеном временском период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ост и уједначеност садржаја лековит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 стерилну амбалаж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њ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сигнатури мора да буде назнач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упна количина лековите супстанце по једном инсерт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ина лековите супстанце која се ослобађа у јединиц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фталмолош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Jug I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ogutt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ап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e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ст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y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е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Jug 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инс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фталмолош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Eur.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6.0, 7.0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drop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lotion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 за 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ders for eye drops and eye lotions (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и лосионе за 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-solid eye preparation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htalmic insert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инсерт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ogutt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, водени или уљани раство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или суспензије једне или више лековитих супстанци, намењене за укапавање у о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 Eu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добијања стабилнијег препарата, он може бити формулисан у чврстом облику који се непосредно пре употребе раствара или суспендује у одговарајућем стерилном раствар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да за инјекције и неутрална уља (рицинусово уље, олеил-олеат, триглицериди средње дугог лан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ски захтеви за капи за оч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ближна изотоничност и еухидричност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едности приближне физиолошким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стрина за растворе и величина чврстих честиц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спенз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тимално терапијско деловањ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билност препарата за време декларисаног рока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рилност препарата током декларисаног рок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ра подношљив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у најчешће носилац дејства капи за очи: антихистаминици, кортикостероиди, локални анестетици, мидријатици, миотици, антимикробни лекови (антибиотици, антивиротици, фунгициди), дијагностичка сре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ципијенс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капима за о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шавање тоничности и вискозит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а за подешавање или стабилизаци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а за повећање растворљивости акти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а за стабилизацију 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изотон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916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пис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Jug 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пи за очи су приближно изотоничне са сузном течношћу и имају снижење тачке мржњења од – 0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до – 0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могу бити и благо хипертонич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 је обавезна за хипотоничне растворе, капи које се примeњују на оперисано око, инфламирано око и капи за хроничну употр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изотониза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орна киселина, натријум-хлорид, калијум-нитрат, глукоза, натријум-сулф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у циљу побољшања стабилности, подношљивости или растворљ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у прописане пуфероване капи за очи, вредност pH се подешава на 5,5 до 7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шавање pH вредности је подређено стабилности лековит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дешавање pH вред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сфат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марни и секундар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сф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оратни пуф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на 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Na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бор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01T09:57:30Z</dcterms:modified>
  <cp:revision>129</cp:revision>
  <dc:subject/>
  <dc:title>Slide 1</dc:title>
</cp:coreProperties>
</file>