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B551-4324-4189-AF54-18B73CD64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15DD-131B-47FA-B96E-61E17BD89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8496-AC4E-4A46-B256-330A3316E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951440" y="551664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835280" y="17733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58920" y="29685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НИ РАСТВОРИ И ИЗОТОН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 ПРИМЕНЕ И КОЛИЧИНА ЛЕКОВИТОГ ПРЕПАРАТ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еђују потребу за изотоничношћу раст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који нису изотонични изазивају иритацију ткива, отицање и бол при апликацији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h.Jug. 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општем пропис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а одступања од изотоничног раство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± 20% за инјекције и ± 10% за инфузиј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кутане инјекциј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малог волумена и није неопходно да буду строго изотон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и се изотонизацијом смањује бол при апликац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ускуларне инјекциј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буду изотонични или благо хипертонични, да помогну пенетрацију у околна тки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5760" y="2060640"/>
            <a:ext cx="8778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инфузиј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најчешће великог волумена и треба да су изотонични. Када је неопходно, хипертонични раствор малих запремина може се применити полако у вену; хипертонични већих запремина примењени помоћу централних венских катетера, апликовани у велике вене - нпр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a c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ће раствор бити брзо разбла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текалне инјекциј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рого изотонични, у противном и мале запремине хипер- или хипотоничних раствора могу изменити осмотски притисак малог волумена цереброспиналне теч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206028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 брзо се разблаже сузама па не захтевају строгу изотоничност, али је пожељно да буду изотоничне због смањене иритације; могу бити благо хипертонич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 за оч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главном изотоничне, јер се користе у великим количин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но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жељно је да буду изотонич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у треба да су изотонични кад год је то могућ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423880" y="134136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фармакопејским прописима изричито се захтева да инјекције буду изотоничне са крвним серумом ако се аплику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ентрални канал кичмене мождин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нтрикуле мозг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упљине зглобо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штану срж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чну шупљину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 инјекције у појединачној дози већој од 15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 хипотоничног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42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ОНИЧАН РАСТВОР + СРЕДСТВО ЗА ИЗОТО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АН  РАСТ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изотонизацију су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, KN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лукоза, борна киселина- само за офталмолошк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редства за изотонизацију зависи од физиолошке подношљивости, начина апликације и компатибилности са лековитом супстан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средства за изотонизацију се може израчунати помоћу рачунских и графичких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62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а соног еквивалента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 Jug. I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створ са једном супстанц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створ са више супстан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11280" y="5110200"/>
            <a:ext cx="806436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и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упстанце потребне за израду за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запремине раствора одређене концентрације. У раствору са више компоненти количине супстанци означене су са а,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. .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луме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оде са којом количина супстанце ,, а ,, даје изотоничан раствор, односно волуме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ипотоничног раствора кога треба изотонизир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519280" cy="708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6119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редства за изотонизацију волумена ,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,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ипотоничног раств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и еквивалент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количину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а даје исто снижење тачке мржњења раствора као и 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 супстанце растворене у истој количини воде (податак из таблиц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и еквивалент супстанце којом се врши изотонизација, податак из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оде који са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ите супстанце даје изотоничан раствор (податак из табе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средства за изотонизациј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ак из таблице за одговарајућу супстанц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22240" y="646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924360" y="5084640"/>
            <a:ext cx="1295280" cy="2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21668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 неелектролита растворен у 100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снижава тачку мржњења за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86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,858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израчунати број грама неелектролита потребан за израду 100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: 1,86 = x : 0,5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/1,86 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279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лативна молекулска ма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неелектролита потребан за припрему 1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42920" y="1104840"/>
            <a:ext cx="69501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из моларне концентр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"/>
          <p:cNvSpPr/>
          <p:nvPr/>
        </p:nvSpPr>
        <p:spPr>
          <a:xfrm>
            <a:off x="4284720" y="2924280"/>
            <a:ext cx="268200" cy="5760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6"/>
          <p:cNvCxnSpPr/>
          <p:nvPr/>
        </p:nvCxnSpPr>
        <p:spPr>
          <a:xfrm>
            <a:off x="5219280" y="5373720"/>
            <a:ext cx="865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Box 7"/>
          <p:cNvSpPr/>
          <p:nvPr/>
        </p:nvSpPr>
        <p:spPr>
          <a:xfrm>
            <a:off x="6227640" y="5516640"/>
            <a:ext cx="26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зотон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539640" y="1197000"/>
            <a:ext cx="806472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израђује изотоничан раствор који садржи електролите не сме се занемарити дисоцијација електролита у воденом раствору јер снижење тачке мржњења зависи од броја чес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електролита потребан за припрему 1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јона које даје један молекул електролита у воденом раствор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803680" y="2565360"/>
            <a:ext cx="2560320" cy="69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843280" y="3645000"/>
            <a:ext cx="209844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468360" y="1341360"/>
            <a:ext cx="82803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Осм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је процес дифузије растварача кроз полупропустљиву мембрану из средине мање концентрације у средину са већом концентр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Промена осмотског притиска узрокује поменуту дифуз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Тонич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је мера осмотских притисака два раствора раздвојених полупропустљивом мембр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Осмоза — Википедија"/>
          <p:cNvPicPr/>
          <p:nvPr/>
        </p:nvPicPr>
        <p:blipFill>
          <a:blip r:embed="rId1"/>
          <a:stretch/>
        </p:blipFill>
        <p:spPr>
          <a:xfrm>
            <a:off x="2916360" y="4149720"/>
            <a:ext cx="48006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преко снижења тачке мржњењ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улова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1880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l-SI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l-SI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хипотоничног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за водене раствор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растворене супстанце у грам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r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молекулска м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јона е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ан волумен раство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24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395280" y="1413000"/>
            <a:ext cx="792180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–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потоничан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–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пертоничан раст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а количина средства за изотонизацију хипотоничног раствора се може израчунати на следећи на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5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  </a:t>
            </a:r>
            <a:r>
              <a:rPr b="1" lang="sl-SI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хипотоничног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 </a:t>
            </a:r>
            <a:r>
              <a:rPr b="1" lang="sl-SI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средства за изотон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ight Arrow 4"/>
          <p:cNvSpPr/>
          <p:nvPr/>
        </p:nvSpPr>
        <p:spPr>
          <a:xfrm>
            <a:off x="3348000" y="3716280"/>
            <a:ext cx="64764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140360" y="3573360"/>
            <a:ext cx="22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27734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9920" y="1117080"/>
            <a:ext cx="7543800" cy="7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без примене образца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68360" y="1773360"/>
            <a:ext cx="8496360" cy="67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Natrii          126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i            15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 pro injectione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 solutio isotonica et sterilisat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manum med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l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NaCl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aOH + HCl → NaCl + H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:  1   →  1                                   1     :     1  →      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26 → 126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              126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26 →  126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l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aCl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(OH)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HCl → CaCl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:  2   →  1                                   1     :     2  →      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30 → 15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                        15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30 →  15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539640" y="1413000"/>
            <a:ext cx="813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ставу инфузије ће се наћи поред натријум и калцијум јона још и 126 + 30 = 156 mmol/l хлоридних јона. Ову измену треба унети у рецеп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Natrii          126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i            15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idi      156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 pro injectione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 solutio isotonica et sterilisat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manum med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рак 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потребне количине NaCl и CaCl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r (NaCl) = 58,5 g/m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26 mol : 1000 ml = x mol : 100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0126 mol у 100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58,5g = 0,0126 mol : x 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= 0,737 g Na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395280" y="1125360"/>
            <a:ext cx="84978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11,1 g/mol          Mr 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= 219,6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15 mol : 1000 ml  = x :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0015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111,1 g = 0,0015 mol : x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665 g C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,1 : 219,6 = 0,1665 g 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 g 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3294g CaC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6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инфузије треба употребит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,737 g NaC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,3294 g CaCl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* 6 H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324000" y="1341360"/>
            <a:ext cx="88200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рак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 тоничности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 се врши у односу на 0,9% раствор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: 100 = x : 100 ml (задата запреминa инфуз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9 g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ак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потребне количине средства за изотон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9 – (А(NaCl) * m(NaCl) + А(Ca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) * m(Ca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NaCl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= 0,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5508720" y="1268280"/>
            <a:ext cx="792000" cy="43200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95280" y="126828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– (1 * 0,737 + 0,36 * 0,3294) = 0,9 – 0,855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45g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као крајњи резултат добије позитивна вредност то значи да се ради о хипотоничном раствору, негативан резултат означава хипертоничан раст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ра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вера одступања од изотон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: 100 = 0,855 : x            x 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о одступање од изотоничности за инфузије је ±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тходним прорачуном установљено је да је одступање 5% што значи да се инфузија може израдити без додатка средства за  изотониз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цепта наглашава да инфузија мора бити изотонична, потребно је додати средство за изотониза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 инфузија за надокнаду електролита се врши неелектролитом, најчешће глуко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глукозе се израчунава помоћу њеног соног еквивал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глукозе) = 0,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укозе = 0,045 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= 0,25 g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е) 180,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,2 :1 = 0,25 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13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дносно 1,3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Natrii          126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i            15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idi      156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ucosae     13,9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 pro injectione 1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 solutio isotonica et sterilisata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manum med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56000" y="4292640"/>
            <a:ext cx="3744720" cy="144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915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гативна својства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50920" y="1557360"/>
            <a:ext cx="864216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м неке супстанце у одређеном растварачу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насталог раствора се мењају у односу на чист растварач. Присуство честица у раствору узрокује снижење напона паре што условљава повећање температуре кључања и снижење температуре мржњењ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у односу на чист раствар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гативна свој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убрајају с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и 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тачке кључ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притиска п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е само од укупног броја честица у раствору независно да ли су јони, молекули или мешавин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и притисак је повезан са проласком кроз физиолошке мемб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ни раствор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и једне или више супстанци, који имају исти или приближно исти осмотски притисак односно снижење тачке мржњења као крвни серум, сузна течност и остале телесне теч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чност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е течности имају исти осмотски притисак и снижење тачке мржњења као и 0,9% раствор натријум-хлорида (физиолошки раствор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оосмотски раство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исто осмотско деловање, тј. иста колигативна својства као 0,9% раствор натријум-хлорида (физичко-хемијски пој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отоничан раство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исто осмотско деловање, тј. иста колигативна својства са телесним течностима (физиолошко-клинички пој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гативно својство које се најлакше, прецизно и економично одређује и користи се за експериментално одређивање тонич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крвног серума, суза и 0,9% раствора натријум-хлорида изно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раствори који мрзну на -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ају осмотски притисак који одговара телесним течностим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онич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4358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потоничан раство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снижење тачке мржњења мање од 0,52 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ижи осмотски притисак од крвног серума, због ниже концентрације јона или недисосованих молекула. Зато течност пролази из раствора у еритроците  – да би се постигла осмотска равнотежа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роцити бубре и пуцају (хемоли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МОЛИЗ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еверзибилан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онич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онични раствори (хиперосмотски) имају веће снижење тачке мржњења и виши осмотски притисак у односу на крвни серум, захваљујући вишој концентрацији јона и недисосованих молекула. Изазивају излазак течности и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троцит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лазмоли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ЗМОЛИЗ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ерзибилан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Osmotski pritisak - Wikipedia"/>
          <p:cNvPicPr/>
          <p:nvPr/>
        </p:nvPicPr>
        <p:blipFill>
          <a:blip r:embed="rId1"/>
          <a:stretch/>
        </p:blipFill>
        <p:spPr>
          <a:xfrm>
            <a:off x="684360" y="1628640"/>
            <a:ext cx="7829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01T10:59:36Z</dcterms:modified>
  <cp:revision>166</cp:revision>
  <dc:subject/>
  <dc:title>Slide 1</dc:title>
</cp:coreProperties>
</file>